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B47-7DE1-4E9A-8EA7-7716B1E4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E5F-61F1-4B29-8491-0B3F8F1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377-251B-4AD5-8F2A-B604D9AC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E7A3-7965-4626-8783-E42E95FD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369C-B311-46D2-9562-1F2BB955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E3CB-E2E0-448D-941C-391D8CC9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97E9-AC33-470D-B757-B01CDFDC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2693-CCB7-48E2-9121-449C4F62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74BE-5394-46D2-BD81-0BBCE7FD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E7C2-F007-40A8-A4A9-FB54AAA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5270-2D9F-42AF-A1BD-1ECE4793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E5B-2CAB-4F4A-B6D3-C8EEDB09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8DD0-84EE-4D9A-84DB-83976B9E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E995-903F-4AB3-B6D5-E832BAF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BDBF-9722-48D8-9867-18207168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C6F1-160D-4919-BC94-1F94CEF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44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0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4753-7A10-4A69-89C0-1842253E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B6B9-00C6-41AB-AEE8-C75FE073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AC2-0ABF-48FB-B5E1-054B7B40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02C-D62C-4D23-9D9D-33FBA291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68E-AC0B-483C-84C5-BBAB2B27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3DB-10C5-478C-8D85-14476104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083-6962-4A16-9D01-2436E9D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D241-F527-44F9-AFD5-5F02296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33680" indent="-28116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31480" indent="-2260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584000" indent="-2260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36520" indent="-2260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36520" indent="-22608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09588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D69AFD-C6C6-4F05-8947-185E58D3235C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77680" y="1949400"/>
            <a:ext cx="7389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09588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057040" y="60958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DB808-3884-465A-8779-F756A626343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77680" y="198108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ff8000"/>
                </a:solidFill>
                <a:latin typeface="Comic Sans MS"/>
              </a:rPr>
              <a:t>Researching:</a:t>
            </a:r>
            <a:endParaRPr b="0" lang="en-US" sz="5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600" spc="-1" strike="noStrike">
                <a:solidFill>
                  <a:srgbClr val="ff8000"/>
                </a:solidFill>
                <a:latin typeface="Comic Sans MS"/>
                <a:ea typeface="MS Pゴシック"/>
              </a:rPr>
              <a:t>The Big Six</a:t>
            </a:r>
            <a:endParaRPr b="0" lang="en-US" sz="36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1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Be Sure You Understand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o you know what you are supposed to find out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o you understand the problem, question, or assignment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at is your job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2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Identify Resources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Encyclopedia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CD-RO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Atla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Book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Internet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Databases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Magazine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Video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Person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Museum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8000"/>
                </a:solidFill>
                <a:latin typeface="Comic Sans MS"/>
              </a:rPr>
              <a:t>Other?</a:t>
            </a:r>
            <a:endParaRPr b="0" lang="en-US" sz="28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3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Gather the Information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istinguish between “trash and treasure.”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List the exact location of the places you found helpful information.  Titles, authors, page numbers, web addresses, etc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4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ort it Out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Did you answer your questions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Organize your information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Check to make sure this is the information you need.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5:</a:t>
            </a:r>
            <a:br>
              <a:rPr sz="4400"/>
            </a:b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Integrate the Information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ere does the information fit into your product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at knowledge did you already have that you can incorporate with what you learned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Cite sources, always!!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8000"/>
                </a:solidFill>
                <a:latin typeface="Comic Sans MS"/>
              </a:rPr>
              <a:t>Step 6: Examine it!</a:t>
            </a:r>
            <a:endParaRPr b="0" lang="en-US" sz="4400" spc="-1" strike="noStrike">
              <a:solidFill>
                <a:srgbClr val="ff8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Take a look at your final product.  Are you done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8000"/>
                </a:solidFill>
                <a:latin typeface="Comic Sans MS"/>
              </a:rPr>
              <a:t>What other information would be helpful to make the final product better?</a:t>
            </a:r>
            <a:endParaRPr b="0" lang="en-US" sz="3200" spc="-1" strike="noStrike">
              <a:solidFill>
                <a:srgbClr val="ff8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gonwheel School</dc:creator>
  <dc:description/>
  <dc:language>en-US</dc:language>
  <cp:lastModifiedBy>Wagonwheel School</cp:lastModifiedBy>
  <cp:revision>0</cp:revision>
  <dc:subject/>
  <dc:title>Researching:</dc:title>
</cp:coreProperties>
</file>